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D45B-1ADC-421B-AA87-B5E0A921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4155-3A17-40D3-AEBF-DE2135D0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0F55-8BCB-42E8-A700-BCB6C8F0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3B6F-D4CC-427A-A950-83A0D8F4B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F3E5-A3D9-425E-8C33-5A1437C4A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4587-E916-40C1-9FFD-199ACA8A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7851-BC9B-4051-BFB7-8C17799D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7ECD-397C-4EAA-A171-BC3ED966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3D80-8304-4DC9-BDDB-BABA5725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DFB8-C642-4D75-9E67-1D012F10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A6D1-BCE3-4D4C-9BF4-8E9E8006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4AFC-45E5-4658-B58F-72BF9C41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BA3B-1F6B-4753-8CEC-F934C559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5E60-F796-4326-9932-25720ADF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1E31-6E57-4AC8-A8C1-265DB148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5E5B-5338-4EED-8079-94A54355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866F-9FA9-4007-9EE8-26890194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4FC7-E781-47FC-BA43-89BC079E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1EAA-FA49-4376-AE4D-4B35A53D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47B5-F9B0-460C-93C8-6F05DFB3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F46D-CEED-4E49-AE52-D8A57CBD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8175-3681-4B69-97BF-FB5E81A2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889B-2A77-4D5A-ADF4-453A3C86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976A-DEF4-47A3-B6E6-240AD398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43a1b"/>
              </a:buClr>
              <a:buFont typeface="MS Gothic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MS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MS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MS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MS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MS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4E39-E5DD-463D-9D34-B97E51578931}" type="slidenum">
              <a:rPr b="0" lang="ja-JP" sz="1400" spc="-1" strike="noStrike">
                <a:solidFill>
                  <a:srgbClr val="ffffff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7"/>
                </a:solidFill>
                <a:latin typeface="Arial"/>
                <a:ea typeface="MS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7"/>
                </a:solidFill>
                <a:latin typeface="Arial"/>
                <a:ea typeface="MS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7"/>
                </a:solidFill>
                <a:latin typeface="Arial"/>
                <a:ea typeface="MS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7"/>
                </a:solidFill>
                <a:latin typeface="Arial"/>
                <a:ea typeface="MS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7"/>
                </a:solidFill>
                <a:latin typeface="Arial"/>
                <a:ea typeface="MS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E830-1568-47D2-9F3B-82BBC5741C21}" type="slidenum">
              <a:rPr b="0" lang="ja-JP" sz="1400" spc="-1" strike="noStrike">
                <a:solidFill>
                  <a:srgbClr val="fffff7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3352680"/>
            <a:ext cx="7315200" cy="2946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542320" y="1295280"/>
            <a:ext cx="4167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第一章  地理环境与区域发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第一节  地理环境对区域发展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79280" y="0"/>
          <a:ext cx="8713440" cy="6524280"/>
        </p:xfrm>
        <a:graphic>
          <a:graphicData uri="http://schemas.openxmlformats.org/drawingml/2006/table">
            <a:tbl>
              <a:tblPr/>
              <a:tblGrid>
                <a:gridCol w="611280"/>
                <a:gridCol w="1751400"/>
                <a:gridCol w="2760840"/>
                <a:gridCol w="3589920"/>
              </a:tblGrid>
              <a:tr h="13741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地理环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长江三角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松嫩平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3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地理位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气候条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土地条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矿产资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9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相同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3022920" y="162864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30°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附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80160" y="1628640"/>
            <a:ext cx="19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43°--48°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附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63840" y="369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黑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6680" y="3697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水稻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040" y="2637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亚热带季风气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34840" y="2617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温带季风气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5200" y="4724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矿产资源缺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60720" y="472428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石油、煤、铁丰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16040" y="580536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地形平坦、都为季风气候、雨热同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0" y="0"/>
          <a:ext cx="9144000" cy="6784920"/>
        </p:xfrm>
        <a:graphic>
          <a:graphicData uri="http://schemas.openxmlformats.org/drawingml/2006/table">
            <a:tbl>
              <a:tblPr/>
              <a:tblGrid>
                <a:gridCol w="723960"/>
                <a:gridCol w="560160"/>
                <a:gridCol w="1686240"/>
                <a:gridCol w="3154320"/>
                <a:gridCol w="3019320"/>
              </a:tblGrid>
              <a:tr h="1030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长江三角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松嫩平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76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地理环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类  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农作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熟  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商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工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3682440" y="13413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东部沿海地区的中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89960" y="1322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东北部地区的中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65960" y="233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水田耕作、水产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51640" y="23493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旱地耕作、畜牧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65960" y="3141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水稻、油菜、棉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49480" y="318780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玉米、春小麦、大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48200" y="400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一年两熟至三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07080" y="40766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一年一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15560" y="4869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商业贸易发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59560" y="47973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交通不变、贸易落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48040" y="6021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综合性工业基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23080" y="5996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重化工基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06640" y="152280"/>
            <a:ext cx="200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343a1b"/>
              </a:buClr>
              <a:buFont typeface="MS Gothic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区域发展差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09480" y="838080"/>
          <a:ext cx="8002800" cy="57913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  <a:gridCol w="1906560"/>
                <a:gridCol w="27432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农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类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作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熟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商    业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工         业          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长江三角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松嫩平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1447920" y="2057400"/>
            <a:ext cx="9302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水稻种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水产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266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21337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年两熟或三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2133720"/>
            <a:ext cx="199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交通便利，对内对外联系方便，商业贸易发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2590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457200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旱地耕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畜牧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4724280"/>
            <a:ext cx="108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玉米春小麦大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00400" y="4572000"/>
            <a:ext cx="70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年一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44956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深居内陆，对内对外联系不便，商业贸易落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43600" y="457524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利用当地丰富的石油资源和周围地区的煤铁资源，发展重化工业，成为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重化工业基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43600" y="205740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依托农业发展轻工业，从国内外运入矿产资源发展重工业，是重要的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综合性工业基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85800" y="2209680"/>
            <a:ext cx="5464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水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油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棉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286000" y="837720"/>
            <a:ext cx="0" cy="1143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124080" y="837720"/>
            <a:ext cx="0" cy="1143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14479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83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43a1b"/>
                </a:solidFill>
                <a:latin typeface="Arial"/>
                <a:ea typeface="楷体_GB2312"/>
              </a:rPr>
              <a:t>地理环境对区域不同发展阶段的影响</a:t>
            </a:r>
            <a:endParaRPr b="0" lang="en-US" sz="40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Font typeface="MS Gothic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区域地理环境对人类活动的影响会随着社会、经济、技术等因素的改变而改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Font typeface="MS Gothic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例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长江中下游平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区域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43a1b"/>
              </a:buClr>
              <a:buFont typeface="MS Gothic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发早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22824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43a1b"/>
                </a:solidFill>
                <a:latin typeface="Arial"/>
                <a:ea typeface="楷体_GB2312"/>
              </a:rPr>
              <a:t>地理环境对区域不同发展阶段的影响</a:t>
            </a:r>
            <a:endParaRPr b="0" lang="en-US" sz="40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5640" y="3284640"/>
            <a:ext cx="81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地理环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80000" y="3429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耕作业发展缓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2205000"/>
            <a:ext cx="81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开垦困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64000" y="4076640"/>
            <a:ext cx="81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阻隔交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24000" y="2421000"/>
            <a:ext cx="1728720" cy="45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地平土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79640" y="4365720"/>
            <a:ext cx="2736720" cy="48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92360" y="2708280"/>
            <a:ext cx="215640" cy="2016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2565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84720" y="2637000"/>
            <a:ext cx="432000" cy="2016000"/>
          </a:xfrm>
          <a:custGeom>
            <a:avLst/>
            <a:gdLst>
              <a:gd name="textAreaLeft" fmla="*/ 0 w 432000"/>
              <a:gd name="textAreaRight" fmla="*/ 155880 w 43200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24000" y="2421000"/>
            <a:ext cx="1728720" cy="48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79640" y="4365720"/>
            <a:ext cx="2736720" cy="45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河、湖、沼泽广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43a1b"/>
                </a:solidFill>
                <a:latin typeface="Arial"/>
                <a:ea typeface="楷体_GB2312"/>
              </a:rPr>
              <a:t>地理环境对区域不同发展阶段的影响</a:t>
            </a:r>
            <a:endParaRPr b="0" lang="en-US" sz="40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50920" y="615636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全国粮、棉、桑蚕基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1268280"/>
            <a:ext cx="302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展时期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19640" y="1484280"/>
            <a:ext cx="1728720" cy="45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科技进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24000" y="2421000"/>
            <a:ext cx="1728720" cy="48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88000" y="2276640"/>
            <a:ext cx="1728720" cy="825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20000" y="2924280"/>
            <a:ext cx="1728720" cy="45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人口迁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3429000"/>
            <a:ext cx="1728720" cy="45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土壤肥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4653000"/>
            <a:ext cx="1728720" cy="45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雨热同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3933720"/>
            <a:ext cx="1871640" cy="482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32000" y="3141720"/>
            <a:ext cx="2449800" cy="2276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3860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水稻、棉花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桑蚕生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348000" y="1989000"/>
            <a:ext cx="432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03640" y="1989000"/>
            <a:ext cx="5050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85080" y="3429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508360" y="4076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79640" y="3716280"/>
            <a:ext cx="11509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050920" y="4437000"/>
            <a:ext cx="1081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27640" y="5445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24000" y="2421000"/>
            <a:ext cx="1728720" cy="45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船舶使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88000" y="2276640"/>
            <a:ext cx="1728720" cy="825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工具改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农技改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93080" y="3933720"/>
            <a:ext cx="1871640" cy="45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劳动力丰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84040"/>
            <a:ext cx="86868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43a1b"/>
                </a:solidFill>
                <a:latin typeface="Arial"/>
                <a:ea typeface="楷体_GB2312"/>
              </a:rPr>
              <a:t>地理环境对区域不同发展阶段的影响</a:t>
            </a:r>
            <a:endParaRPr b="0" lang="en-US" sz="40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1447920"/>
            <a:ext cx="36702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工商业发展阶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2637000"/>
            <a:ext cx="1728720" cy="45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人口、城市稠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4005360"/>
            <a:ext cx="1728720" cy="48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2637000"/>
            <a:ext cx="1800000" cy="48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43280" y="4005360"/>
            <a:ext cx="1728720" cy="45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耕地破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76720" y="2133720"/>
            <a:ext cx="2159280" cy="48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76720" y="3429000"/>
            <a:ext cx="2159280" cy="482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92720" y="4653000"/>
            <a:ext cx="1871640" cy="45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生产规模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415280" y="2852640"/>
            <a:ext cx="1728720" cy="825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在全国粮棉生产中的地位下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24000" y="2924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24000" y="429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88000" y="2708280"/>
            <a:ext cx="144360" cy="1584360"/>
          </a:xfrm>
          <a:custGeom>
            <a:avLst/>
            <a:gdLst>
              <a:gd name="textAreaLeft" fmla="*/ 0 w 144360"/>
              <a:gd name="textAreaRight" fmla="*/ 101160 w 144360"/>
              <a:gd name="textAreaTop" fmla="*/ 65880 h 1584360"/>
              <a:gd name="textAreaBottom" fmla="*/ 151848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236000" y="2421000"/>
            <a:ext cx="144360" cy="2305080"/>
          </a:xfrm>
          <a:custGeom>
            <a:avLst/>
            <a:gdLst>
              <a:gd name="textAreaLeft" fmla="*/ 0 w 144360"/>
              <a:gd name="textAreaRight" fmla="*/ 101160 w 144360"/>
              <a:gd name="textAreaTop" fmla="*/ 95760 h 2305080"/>
              <a:gd name="textAreaBottom" fmla="*/ 22093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56360" y="2638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156360" y="393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4005360"/>
            <a:ext cx="1728720" cy="45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水网稠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16360" y="2637000"/>
            <a:ext cx="1800000" cy="45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人均耕地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76720" y="2133720"/>
            <a:ext cx="2160720" cy="45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机械化水平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76720" y="3429000"/>
            <a:ext cx="2160720" cy="45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粮食商品率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83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43a1b"/>
                </a:solidFill>
                <a:latin typeface="Arial"/>
                <a:ea typeface="楷体_GB2312"/>
              </a:rPr>
              <a:t>地理环境对区域不同发展阶段的影响</a:t>
            </a:r>
            <a:endParaRPr b="0" lang="en-US" sz="40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1905120"/>
            <a:ext cx="8458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工商业发展时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受一些因素影响，粮食商品率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——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粮仓”地位让位于东北和华北平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棉花生产比不上新疆南部和华北平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4262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江三角洲位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°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附近，地处我国东部沿海中部，长江入海口。松嫩平原大致位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3°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8°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间，我国东北地区中部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4464000" cy="4473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788000" y="1484280"/>
            <a:ext cx="4205160" cy="43210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520" y="336600"/>
            <a:ext cx="8076960" cy="61405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86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52280" y="144360"/>
            <a:ext cx="8839440" cy="6408720"/>
          </a:xfrm>
          <a:prstGeom prst="rect">
            <a:avLst/>
          </a:prstGeom>
          <a:ln w="0">
            <a:noFill/>
          </a:ln>
        </p:spPr>
      </p:pic>
      <p:sp>
        <p:nvSpPr>
          <p:cNvPr id="233" name="">
            <a:hlinkClick r:id="rId2" action="ppaction://hlinksldjump"/>
          </p:cNvPr>
          <p:cNvSpPr/>
          <p:nvPr/>
        </p:nvSpPr>
        <p:spPr>
          <a:xfrm>
            <a:off x="8381880" y="655308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9" h="21600">
                <a:moveTo>
                  <a:pt x="19968" y="10800"/>
                </a:moveTo>
                <a:lnTo>
                  <a:pt x="33981" y="3794"/>
                </a:lnTo>
                <a:lnTo>
                  <a:pt x="33981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5448600" cy="4362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437080" y="1219320"/>
            <a:ext cx="3706920" cy="5333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90720" y="464832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印度半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5880" y="6094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朝鲜半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1295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印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42480" y="3276720"/>
            <a:ext cx="1277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朝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7200" y="4724280"/>
            <a:ext cx="12776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韩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62120" y="10666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一、区域的基本特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8288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、概念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区域是指一定的地域空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4382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2</a:t>
            </a:r>
            <a:r>
              <a:rPr b="0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、主要特征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32004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12408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30481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区域具有一定的界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3048120"/>
            <a:ext cx="228600" cy="609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明确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342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模糊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378936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区域内部有明显的相似性和连续性；区域之间有显著的差异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46483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区域具有一定的优势、特色、功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52578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区域之间是相互联系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18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楷体_GB2312"/>
              </a:rPr>
              <a:t>二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地理环境差异对区域发展的影响</a:t>
            </a:r>
            <a:endParaRPr b="0" lang="en-US" sz="32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102440" cy="18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同区域由于地理环境的差异，人们的生产、生活的特点有许多不同，区域的工业、农业、商业等发展水平、发展方向等也存在差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441972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</a:rPr>
              <a:t>长江三角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4000" spc="-1" strike="noStrike" u="sng">
                <a:solidFill>
                  <a:srgbClr val="0000cc"/>
                </a:solidFill>
                <a:uFillTx/>
                <a:latin typeface="Times New Roman"/>
              </a:rPr>
              <a:t>松嫩平原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4800600"/>
            <a:ext cx="1905120" cy="1447920"/>
          </a:xfrm>
          <a:prstGeom prst="wedgeEllipseCallout">
            <a:avLst>
              <a:gd name="adj1" fmla="val 88583"/>
              <a:gd name="adj2" fmla="val -52083"/>
            </a:avLst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518148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举例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comb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609480" y="380880"/>
          <a:ext cx="7925040" cy="628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7925040" cy="62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6324480" y="1371600"/>
            <a:ext cx="83844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19920" y="388620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848360" cy="5562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934320" y="533520"/>
            <a:ext cx="20574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长江三角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8153280" y="640080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30399" y="10800"/>
                </a:lnTo>
                <a:lnTo>
                  <a:pt x="16386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533520"/>
            <a:ext cx="8153280" cy="556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3352680"/>
            <a:ext cx="66294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3048120" y="1828440"/>
            <a:ext cx="4267080" cy="30481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27734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2565360"/>
            <a:ext cx="22100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角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94920" y="1828800"/>
            <a:ext cx="1155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黄  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69440" y="3657600"/>
            <a:ext cx="1155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东  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81532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15364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8153280" y="640080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30399" y="10800"/>
                </a:lnTo>
                <a:lnTo>
                  <a:pt x="16386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04-23T05:55:25Z</dcterms:modified>
  <cp:revision>50</cp:revision>
  <dc:subject/>
  <dc:title>PowerPoint Presentation</dc:title>
</cp:coreProperties>
</file>